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9607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E130-366E-4BD2-B3AC-AEEA2322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84BC-926D-47AA-BED7-0BA2A0E2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6A74-5489-42E8-8603-7930D159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2188-A7AF-472F-9EE6-CDB03F82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368B-4B8E-4281-8A4E-2525BBAC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B004-0EBF-4E01-953D-F7633EDA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90F7-293F-4892-B9B5-945C21B5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169C-C2C9-4B73-A008-C730583A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7AD6-6EB6-41E0-8343-9AA123CD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52B9-3B62-4688-996C-6636489F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BD33-43EE-4393-83B0-4419171D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1F6B-FC2D-4213-9E69-48173A27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508B-06FE-4A21-8BFF-22214F203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AW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ortragender: Martin Berg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ehrveranstaltu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seminar aus Informatik WS 2.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86.007 und 186.0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8.11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Java AWT - Lightweight Components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rum Lightweight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rechteckige Komponen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ansparente Kompon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Bereiche anderer Komponenten zeich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ringere Auslastung der Systemressourc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heitliches Aussehen auf verschiedenen Syst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Java AWT - Lightweight Components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zeugung von Lightweight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weitern von: Component, Container oder Unterk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truktor generieren. (enableEvents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int()-Methode implementi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hoden um den Status der Komponente zu änd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hoden um Listener zu registrieren und abzu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tains() Meth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cessXxx() Methoden.z.B.:processMouseEve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AWT - Contai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647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ellt Methoden zur Verfügung fü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ruppieren von Kompone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ComponentCount(), getComponents(), add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mov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yout am Bildschi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vent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a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in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AWT - Container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indow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a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a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4267440" cy="1828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62120" y="4800600"/>
            <a:ext cx="1842840" cy="1851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486400" y="5029200"/>
            <a:ext cx="2867040" cy="1317600"/>
          </a:xfrm>
          <a:prstGeom prst="rect">
            <a:avLst/>
          </a:prstGeom>
          <a:ln w="0">
            <a:noFill/>
          </a:ln>
        </p:spPr>
      </p:pic>
      <p:pic>
        <p:nvPicPr>
          <p:cNvPr id="81" name="Panel" descr=""/>
          <p:cNvPicPr/>
          <p:nvPr/>
        </p:nvPicPr>
        <p:blipFill>
          <a:blip r:embed="rId4"/>
          <a:stretch/>
        </p:blipFill>
        <p:spPr>
          <a:xfrm>
            <a:off x="4952880" y="2514600"/>
            <a:ext cx="396252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Java AWT - Can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ittstelle um eigene Komponenten zu implementi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gene Komponenten erstell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tels Container, Komponenten grupp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weitern von vorhandenen Kompon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öllig neue Komponenten mit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AWT-Inha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füh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ruktur des AW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eer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ightweight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an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AWT - Einfüh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stract </a:t>
            </a:r>
            <a:r>
              <a:rPr b="0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dow </a:t>
            </a:r>
            <a:r>
              <a:rPr b="0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olk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otiv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fache Portierung des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ystemkonformes Ausse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AWT - Stru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782040" cy="61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971800" y="1980720"/>
            <a:ext cx="5486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utt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Canvas    Checkbox    Choise    Labe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st          Scrollbar        TextArea         Text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AWT - Struktur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440" y="1980720"/>
            <a:ext cx="198108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048120" y="3429000"/>
            <a:ext cx="5257800" cy="2965320"/>
            <a:chOff x="3048120" y="3429000"/>
            <a:chExt cx="5257800" cy="2965320"/>
          </a:xfrm>
        </p:grpSpPr>
        <p:pic>
          <p:nvPicPr>
            <p:cNvPr id="53" name="button" descr=""/>
            <p:cNvPicPr/>
            <p:nvPr/>
          </p:nvPicPr>
          <p:blipFill>
            <a:blip r:embed="rId1"/>
            <a:stretch/>
          </p:blipFill>
          <p:spPr>
            <a:xfrm>
              <a:off x="3048120" y="3505320"/>
              <a:ext cx="60948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canvas" descr=""/>
            <p:cNvPicPr/>
            <p:nvPr/>
          </p:nvPicPr>
          <p:blipFill>
            <a:blip r:embed="rId2"/>
            <a:stretch/>
          </p:blipFill>
          <p:spPr>
            <a:xfrm>
              <a:off x="4038840" y="3429000"/>
              <a:ext cx="96516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checkbox" descr=""/>
            <p:cNvPicPr/>
            <p:nvPr/>
          </p:nvPicPr>
          <p:blipFill>
            <a:blip r:embed="rId3"/>
            <a:stretch/>
          </p:blipFill>
          <p:spPr>
            <a:xfrm>
              <a:off x="5257800" y="3505320"/>
              <a:ext cx="91440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choice" descr=""/>
            <p:cNvPicPr/>
            <p:nvPr/>
          </p:nvPicPr>
          <p:blipFill>
            <a:blip r:embed="rId4"/>
            <a:stretch/>
          </p:blipFill>
          <p:spPr>
            <a:xfrm>
              <a:off x="6324840" y="3429000"/>
              <a:ext cx="1143000" cy="8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list" descr=""/>
            <p:cNvPicPr/>
            <p:nvPr/>
          </p:nvPicPr>
          <p:blipFill>
            <a:blip r:embed="rId5"/>
            <a:stretch/>
          </p:blipFill>
          <p:spPr>
            <a:xfrm>
              <a:off x="3048120" y="5181480"/>
              <a:ext cx="692280" cy="71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label" descr=""/>
            <p:cNvPicPr/>
            <p:nvPr/>
          </p:nvPicPr>
          <p:blipFill>
            <a:blip r:embed="rId6"/>
            <a:stretch/>
          </p:blipFill>
          <p:spPr>
            <a:xfrm>
              <a:off x="7696440" y="3429000"/>
              <a:ext cx="60948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scrolbar" descr=""/>
            <p:cNvPicPr/>
            <p:nvPr/>
          </p:nvPicPr>
          <p:blipFill>
            <a:blip r:embed="rId7"/>
            <a:stretch/>
          </p:blipFill>
          <p:spPr>
            <a:xfrm>
              <a:off x="3962520" y="5181480"/>
              <a:ext cx="1447920" cy="12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textfield" descr=""/>
            <p:cNvPicPr/>
            <p:nvPr/>
          </p:nvPicPr>
          <p:blipFill>
            <a:blip r:embed="rId8"/>
            <a:stretch/>
          </p:blipFill>
          <p:spPr>
            <a:xfrm>
              <a:off x="7391520" y="5181480"/>
              <a:ext cx="914400" cy="33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Java AWT-Pe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eer: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st die Implementierung einer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omponente in der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ystemumgeb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eers" descr=""/>
          <p:cNvPicPr/>
          <p:nvPr/>
        </p:nvPicPr>
        <p:blipFill>
          <a:blip r:embed="rId1"/>
          <a:stretch/>
        </p:blipFill>
        <p:spPr>
          <a:xfrm>
            <a:off x="1752480" y="4572000"/>
            <a:ext cx="586764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ava AWT - Pe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86764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Java AWT - Peer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erhalten von Pe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ddButton erzeugt kein P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tfernen der Komponente vernichtet diese ni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harakteristika wird gespeich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ssourcen intensi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Java AWT - Lightweight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eavyweight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eer-Objek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wenden Systemkomponen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ightweight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st seit Java 1.1 Beta 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in Peer, Unterklassen von Komponent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ine Java Objek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9T11:55:12Z</dcterms:created>
  <dc:creator>PC</dc:creator>
  <dc:description/>
  <dc:language>en-US</dc:language>
  <cp:lastModifiedBy>PC</cp:lastModifiedBy>
  <cp:lastPrinted>2000-11-28T10:37:18Z</cp:lastPrinted>
  <dcterms:modified xsi:type="dcterms:W3CDTF">2000-11-28T12:41:39Z</dcterms:modified>
  <cp:revision>12</cp:revision>
  <dc:subject/>
  <dc:title>Java AWT</dc:title>
</cp:coreProperties>
</file>